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C102-96E2-433B-9763-0E13CA8E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5E3-4E70-453E-9404-96FE68AA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25A-3E28-447A-B0E9-E873107F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4BF6-235C-4E02-8B4B-8AB5FB02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BCE9-B469-42F9-9A9E-0632B70E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0513-490C-454A-B095-387A1ECD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4474-B3A8-4F26-94EA-C58E6896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2BE9-BBE2-42EF-B07B-520D4574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74AE-9DE1-4420-AEF2-EF7AEE25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F2DA-5962-42F2-B30F-C3E7C042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3D0D-4864-4887-A8EC-27E6E29E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5F7-72BE-4005-B6BD-57D57302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4547-8781-4EFF-80F1-10F2B913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78E8-40D9-4A82-98FC-CBEE06D9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15E4-0B84-49A6-BA4D-D47FAFBE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EA59-4CED-4529-A679-900585F4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71D6-D651-419C-B947-861DD026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C10-DB41-463F-9CF2-6FEF07F7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114E-03CF-4A21-85C0-FB640D22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D768-FBFA-4A0A-8125-5CA7B617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647-B4CC-4283-BBD3-9831D885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1801-D0D0-4B97-A36A-5A016C68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3910-A884-4EFC-8B39-186723AE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F2F1-3AC9-493A-B0D8-1FCC8330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2EC2-C86D-41F3-B958-09C77C8334F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16AF-0D43-4F15-B309-C424A1D06E4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33904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ch leads to the question, which is more important, perhaps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WH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S THE SCIENCE CURRICULUM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f as explainer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id foundat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ience-Technology-Decis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ientific skill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rrect explanat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eryday coping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ture of Science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rom Roberts, D. (1982)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M = Science, Technology, Engineering, Mathematic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kforce—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ighest paying jobs http://wiki.answers.com/Q/What_are_the_highest_paying_job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stige/Pride http://www.usatoday.com/money/economy/employment/2005-05-23-prestige-usat_x.htm http://www.usnews.com/usnews/biztech/articles/070802/2prestige.ht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mal Curriculum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– What is supposed to be included (a.k.a. the Explicit Curriculum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ull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left ou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dden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taught unintentionall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urriculum in Us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really taug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mergent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comes about through interaction with student interests and current ev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eived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students lear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and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ublished curriculum materi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pplemental materi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de public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udent interes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acher creativ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th apologies to Miriam Ben-Peret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intended by the developers is not necessarily how curriculum materials are us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achers interpret curriculum material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erpretation of curriculum materials, or any materials, depends 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eachers’ creative abilities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curriculum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subject matter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discipline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context in which the teacher wor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world according to Robeck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is intentional and responsiv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makes use of the widest possible array of resources in an effort to help learning occu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is active in the lives of both the teacher and the student in several ways, at several levels both in and out of school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what we have done so far in this class, find examples for each of the ideas in this presentation, if you can…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ch of the ideas were easiest to find examples of? Which were hardest? Why do you suppose that i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might be the consequences of practicing teaching without knowledge of each of these idea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are the abilities implied by each ide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31:38Z</dcterms:created>
  <dc:creator>Information Technology</dc:creator>
  <dc:description/>
  <dc:language>en-US</dc:language>
  <cp:lastModifiedBy>Information Technology</cp:lastModifiedBy>
  <dcterms:modified xsi:type="dcterms:W3CDTF">2010-02-22T14:38:28Z</dcterms:modified>
  <cp:revision>8</cp:revision>
  <dc:subject/>
  <dc:title>What is the Science Curriculum?</dc:title>
</cp:coreProperties>
</file>